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4F37-6AED-4F49-8A5B-F7B2CEBF6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9FCB-FBE0-413D-84C8-ED99DD84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AB4B-B6B4-494E-9A53-ABEECC292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AB19-4F5C-4596-A04A-B1C456109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0089-7315-4D8C-AE9A-CC84BCE2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6A6A-0427-4BE7-8083-ED9F2D9C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12A6-BCCD-4052-B37B-F41C12AB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2C18-39AD-4D9D-A8A5-D2CCC04D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B6B2-6C25-4510-B5CA-4F9505D6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C805-84A9-4D14-BF60-7B76159C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40A0-4AB9-41DF-9544-429D4F7C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753D-CBD3-45C8-B4B8-00E5F477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DF37-8669-4435-A942-DE48CC31C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60320" y="1522440"/>
            <a:ext cx="7166520" cy="1387080"/>
            <a:chOff x="760320" y="1522440"/>
            <a:chExt cx="7166520" cy="1387080"/>
          </a:xfrm>
        </p:grpSpPr>
        <p:sp>
          <p:nvSpPr>
            <p:cNvPr id="42" name=""/>
            <p:cNvSpPr/>
            <p:nvPr/>
          </p:nvSpPr>
          <p:spPr>
            <a:xfrm rot="5380200">
              <a:off x="1248840" y="2247480"/>
              <a:ext cx="658800" cy="560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V="1" rot="5380800">
              <a:off x="1246680" y="1908720"/>
              <a:ext cx="658800" cy="561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rot="5380200">
              <a:off x="1245600" y="1572840"/>
              <a:ext cx="658800" cy="560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5380800">
              <a:off x="715680" y="2250720"/>
              <a:ext cx="658800" cy="560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5380200">
              <a:off x="714600" y="1911600"/>
              <a:ext cx="658800" cy="561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 rot="5380800">
              <a:off x="712440" y="1575720"/>
              <a:ext cx="659160" cy="56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5380200">
              <a:off x="3349800" y="2294280"/>
              <a:ext cx="658800" cy="561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 rot="5380800">
              <a:off x="3336840" y="1958400"/>
              <a:ext cx="658800" cy="560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5380200">
              <a:off x="3326040" y="1619640"/>
              <a:ext cx="658800" cy="561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 rot="5380800">
              <a:off x="2784240" y="2298240"/>
              <a:ext cx="658800" cy="560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5380200">
              <a:off x="2782440" y="1961640"/>
              <a:ext cx="658800" cy="560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 rot="5380800">
              <a:off x="2781000" y="1623960"/>
              <a:ext cx="658800" cy="56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380200">
              <a:off x="5374800" y="2295000"/>
              <a:ext cx="658800" cy="560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 rot="5380800">
              <a:off x="5372640" y="1957680"/>
              <a:ext cx="658800" cy="561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5380200">
              <a:off x="5371560" y="1620360"/>
              <a:ext cx="658800" cy="560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 rot="5380800">
              <a:off x="4820400" y="2297520"/>
              <a:ext cx="658800" cy="561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5380200">
              <a:off x="4818240" y="1960920"/>
              <a:ext cx="658800" cy="561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 rot="5380800">
              <a:off x="4817160" y="1622880"/>
              <a:ext cx="658800" cy="561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5380200">
              <a:off x="7315200" y="2295360"/>
              <a:ext cx="658800" cy="56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5380800">
              <a:off x="7312680" y="1957680"/>
              <a:ext cx="658800" cy="561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5380200">
              <a:off x="7311600" y="1620360"/>
              <a:ext cx="658800" cy="560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 rot="5380800">
              <a:off x="6759360" y="2298240"/>
              <a:ext cx="658800" cy="560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5380200">
              <a:off x="6758280" y="1960920"/>
              <a:ext cx="658800" cy="561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380800">
              <a:off x="6756120" y="1623600"/>
              <a:ext cx="658800" cy="560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5380200">
            <a:off x="1248840" y="2247840"/>
            <a:ext cx="659160" cy="5605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 rot="5380800">
            <a:off x="1246680" y="1908720"/>
            <a:ext cx="658800" cy="5619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5380200">
            <a:off x="1245600" y="1572840"/>
            <a:ext cx="658800" cy="5605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 rot="5380800">
            <a:off x="715680" y="2250720"/>
            <a:ext cx="658800" cy="5605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5380200">
            <a:off x="714600" y="1911960"/>
            <a:ext cx="658800" cy="5619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 rot="5380800">
            <a:off x="712440" y="1576440"/>
            <a:ext cx="658800" cy="5601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5380200">
            <a:off x="3349800" y="2294640"/>
            <a:ext cx="658800" cy="56196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 rot="5380800">
            <a:off x="3336840" y="1958760"/>
            <a:ext cx="658800" cy="5605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5380200">
            <a:off x="3326040" y="1620000"/>
            <a:ext cx="658800" cy="5619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 rot="5380800">
            <a:off x="2784240" y="2298600"/>
            <a:ext cx="658800" cy="5605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5380200">
            <a:off x="2782440" y="1962000"/>
            <a:ext cx="658800" cy="5605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 rot="5380800">
            <a:off x="2781000" y="1623960"/>
            <a:ext cx="658800" cy="5601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5380200">
            <a:off x="5374800" y="2295360"/>
            <a:ext cx="658800" cy="5605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 rot="5380800">
            <a:off x="5372640" y="1958040"/>
            <a:ext cx="658800" cy="56196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5380200">
            <a:off x="5371560" y="1620720"/>
            <a:ext cx="658800" cy="5605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 rot="5380800">
            <a:off x="4820400" y="2297880"/>
            <a:ext cx="658800" cy="56196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5380200">
            <a:off x="4818240" y="1961280"/>
            <a:ext cx="658800" cy="5619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 rot="5380800">
            <a:off x="4817160" y="1622880"/>
            <a:ext cx="658800" cy="5619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380200">
            <a:off x="7315200" y="2295720"/>
            <a:ext cx="658800" cy="5601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 rot="5380800">
            <a:off x="7312680" y="1958040"/>
            <a:ext cx="658800" cy="5619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380200">
            <a:off x="7311600" y="1620720"/>
            <a:ext cx="658800" cy="5605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 rot="5380800">
            <a:off x="6759360" y="2298600"/>
            <a:ext cx="658800" cy="5605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5380200">
            <a:off x="6758280" y="1961280"/>
            <a:ext cx="658800" cy="5619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 rot="5380800">
            <a:off x="6756120" y="1623600"/>
            <a:ext cx="658800" cy="5605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8120" y="173160"/>
            <a:ext cx="7727760" cy="1218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fcfcd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2920" indent="-104292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341.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, какая часть фигуры закрашена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красным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акая желтым и какая зеленым цветом. Постарайтесь найти разные способы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33560" y="2862360"/>
            <a:ext cx="6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70160" y="2851200"/>
            <a:ext cx="61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03800" y="2862360"/>
            <a:ext cx="6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207200" y="2862360"/>
            <a:ext cx="61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457280" y="3776760"/>
                <a:ext cx="38916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835200" y="3776760"/>
                <a:ext cx="38880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602160" y="3776760"/>
                <a:ext cx="36828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954160" y="3776760"/>
                <a:ext cx="38916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5603760" y="3776760"/>
                <a:ext cx="40644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4935600" y="3776760"/>
                <a:ext cx="38880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902280" y="3776760"/>
                <a:ext cx="38916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5600880" y="5848200"/>
                <a:ext cx="3459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948200" y="5848200"/>
                <a:ext cx="3459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494000" y="4861080"/>
                <a:ext cx="33336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857160" y="4861080"/>
                <a:ext cx="33336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645000" y="4861080"/>
                <a:ext cx="31572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989440" y="4861080"/>
                <a:ext cx="33480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641760" y="5881680"/>
                <a:ext cx="33984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965320" y="5883120"/>
                <a:ext cx="3574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7596360" y="3786120"/>
            <a:ext cx="44604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75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50920" y="3844800"/>
            <a:ext cx="46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92240" y="4962600"/>
            <a:ext cx="46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47920" y="4910040"/>
            <a:ext cx="46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20920" y="5954760"/>
            <a:ext cx="46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34040" y="3851280"/>
            <a:ext cx="46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43240" y="3882960"/>
            <a:ext cx="46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89400" y="5904000"/>
            <a:ext cx="46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221600" y="3865680"/>
            <a:ext cx="46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9280" y="3305160"/>
            <a:ext cx="18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рас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7360" y="448308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желт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38520" y="3306600"/>
            <a:ext cx="140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рас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78280" y="3305160"/>
            <a:ext cx="13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рас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84920" y="330192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рас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30680" y="445788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желт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84600" y="546408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Times New Roman"/>
              </a:rPr>
              <a:t>зеле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65680" y="546408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Times New Roman"/>
              </a:rPr>
              <a:t>зеле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262240" y="4243320"/>
            <a:ext cx="4333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fcfcd0"/>
                  </a:outerShdw>
                </a:effectLst>
                <a:latin typeface="Times New Roman"/>
              </a:rPr>
              <a:t>ПРОВЕРЬТЕ СЕБЯ!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fcfcd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66840" y="185760"/>
            <a:ext cx="8516880" cy="825480"/>
          </a:xfrm>
          <a:prstGeom prst="rect">
            <a:avLst/>
          </a:prstGeom>
          <a:solidFill>
            <a:srgbClr val="fcf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так, мы убедились, что одну и ту же величину можно записать разными способами, например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90480" y="2879640"/>
            <a:ext cx="1727280" cy="1104840"/>
            <a:chOff x="690480" y="2879640"/>
            <a:chExt cx="1727280" cy="1104840"/>
          </a:xfrm>
        </p:grpSpPr>
        <p:sp>
          <p:nvSpPr>
            <p:cNvPr id="130" name=""/>
            <p:cNvSpPr/>
            <p:nvPr/>
          </p:nvSpPr>
          <p:spPr>
            <a:xfrm>
              <a:off x="690480" y="2879640"/>
              <a:ext cx="1727280" cy="1104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cfcd0"/>
                </a:gs>
                <a:gs pos="50000">
                  <a:srgbClr val="ffffff"/>
                </a:gs>
                <a:gs pos="100000">
                  <a:srgbClr val="fcfcd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" name=""/>
                <p:cNvSpPr txBox="1"/>
                <p:nvPr/>
              </p:nvSpPr>
              <p:spPr>
                <a:xfrm>
                  <a:off x="1728720" y="2933280"/>
                  <a:ext cx="613080" cy="100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2" name=""/>
                <p:cNvSpPr txBox="1"/>
                <p:nvPr/>
              </p:nvSpPr>
              <p:spPr>
                <a:xfrm>
                  <a:off x="879480" y="2933280"/>
                  <a:ext cx="612720" cy="100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33" name=""/>
            <p:cNvSpPr/>
            <p:nvPr/>
          </p:nvSpPr>
          <p:spPr>
            <a:xfrm>
              <a:off x="1376280" y="3160440"/>
              <a:ext cx="46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2706840" y="2878200"/>
            <a:ext cx="1726920" cy="1104840"/>
            <a:chOff x="2706840" y="2878200"/>
            <a:chExt cx="1726920" cy="1104840"/>
          </a:xfrm>
        </p:grpSpPr>
        <p:sp>
          <p:nvSpPr>
            <p:cNvPr id="135" name=""/>
            <p:cNvSpPr/>
            <p:nvPr/>
          </p:nvSpPr>
          <p:spPr>
            <a:xfrm>
              <a:off x="2706840" y="2878200"/>
              <a:ext cx="1726920" cy="1104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cfcd0"/>
                </a:gs>
                <a:gs pos="50000">
                  <a:srgbClr val="ffffff"/>
                </a:gs>
                <a:gs pos="100000">
                  <a:srgbClr val="fcfcd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" name=""/>
                <p:cNvSpPr txBox="1"/>
                <p:nvPr/>
              </p:nvSpPr>
              <p:spPr>
                <a:xfrm>
                  <a:off x="3827160" y="2928960"/>
                  <a:ext cx="583920" cy="101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7" name=""/>
                <p:cNvSpPr txBox="1"/>
                <p:nvPr/>
              </p:nvSpPr>
              <p:spPr>
                <a:xfrm>
                  <a:off x="2854080" y="2930400"/>
                  <a:ext cx="618840" cy="100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38" name=""/>
            <p:cNvSpPr/>
            <p:nvPr/>
          </p:nvSpPr>
          <p:spPr>
            <a:xfrm>
              <a:off x="3308040" y="3160800"/>
              <a:ext cx="615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807080" y="2879640"/>
            <a:ext cx="1792080" cy="1104840"/>
            <a:chOff x="4807080" y="2879640"/>
            <a:chExt cx="1792080" cy="1104840"/>
          </a:xfrm>
        </p:grpSpPr>
        <p:sp>
          <p:nvSpPr>
            <p:cNvPr id="140" name=""/>
            <p:cNvSpPr/>
            <p:nvPr/>
          </p:nvSpPr>
          <p:spPr>
            <a:xfrm>
              <a:off x="4808520" y="2879640"/>
              <a:ext cx="1727280" cy="1104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cfcd0"/>
                </a:gs>
                <a:gs pos="50000">
                  <a:srgbClr val="ffffff"/>
                </a:gs>
                <a:gs pos="100000">
                  <a:srgbClr val="fcfcd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5773680" y="2958840"/>
                  <a:ext cx="825480" cy="95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2" name=""/>
                <p:cNvSpPr txBox="1"/>
                <p:nvPr/>
              </p:nvSpPr>
              <p:spPr>
                <a:xfrm>
                  <a:off x="4807080" y="2957040"/>
                  <a:ext cx="739800" cy="95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43" name=""/>
            <p:cNvSpPr/>
            <p:nvPr/>
          </p:nvSpPr>
          <p:spPr>
            <a:xfrm>
              <a:off x="5464440" y="3153960"/>
              <a:ext cx="46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6932520" y="2879640"/>
            <a:ext cx="1755360" cy="1104840"/>
            <a:chOff x="6932520" y="2879640"/>
            <a:chExt cx="1755360" cy="1104840"/>
          </a:xfrm>
        </p:grpSpPr>
        <p:sp>
          <p:nvSpPr>
            <p:cNvPr id="145" name=""/>
            <p:cNvSpPr/>
            <p:nvPr/>
          </p:nvSpPr>
          <p:spPr>
            <a:xfrm>
              <a:off x="6932520" y="2879640"/>
              <a:ext cx="1726920" cy="1104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cfcd0"/>
                </a:gs>
                <a:gs pos="50000">
                  <a:srgbClr val="ffffff"/>
                </a:gs>
                <a:gs pos="100000">
                  <a:srgbClr val="fcfcd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6992640" y="2938320"/>
                  <a:ext cx="607680" cy="99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7" name=""/>
                <p:cNvSpPr txBox="1"/>
                <p:nvPr/>
              </p:nvSpPr>
              <p:spPr>
                <a:xfrm>
                  <a:off x="7919640" y="2938320"/>
                  <a:ext cx="768240" cy="99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48" name=""/>
            <p:cNvSpPr/>
            <p:nvPr/>
          </p:nvSpPr>
          <p:spPr>
            <a:xfrm>
              <a:off x="7553160" y="3174840"/>
              <a:ext cx="461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1293840" y="3192480"/>
            <a:ext cx="53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57480" y="2800440"/>
            <a:ext cx="46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93840" y="3691080"/>
            <a:ext cx="511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52440" y="3603600"/>
            <a:ext cx="46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28840" y="3168720"/>
            <a:ext cx="6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92480" y="2776680"/>
            <a:ext cx="4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87800" y="3579840"/>
            <a:ext cx="5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79600" y="3670200"/>
            <a:ext cx="6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264280" y="3154320"/>
            <a:ext cx="65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92720" y="3656160"/>
            <a:ext cx="65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385960" y="2768760"/>
            <a:ext cx="646560" cy="459720"/>
            <a:chOff x="5385960" y="2768760"/>
            <a:chExt cx="646560" cy="459720"/>
          </a:xfrm>
        </p:grpSpPr>
        <p:sp>
          <p:nvSpPr>
            <p:cNvPr id="160" name=""/>
            <p:cNvSpPr/>
            <p:nvPr/>
          </p:nvSpPr>
          <p:spPr>
            <a:xfrm>
              <a:off x="5504040" y="2768760"/>
              <a:ext cx="52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5385960" y="2959200"/>
              <a:ext cx="159120" cy="145800"/>
              <a:chOff x="5385960" y="2959200"/>
              <a:chExt cx="159120" cy="145800"/>
            </a:xfrm>
          </p:grpSpPr>
          <p:sp>
            <p:nvSpPr>
              <p:cNvPr id="162" name=""/>
              <p:cNvSpPr/>
              <p:nvPr/>
            </p:nvSpPr>
            <p:spPr>
              <a:xfrm>
                <a:off x="5386320" y="2959200"/>
                <a:ext cx="15876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5385960" y="2959200"/>
                <a:ext cx="15876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4" name=""/>
          <p:cNvGrpSpPr/>
          <p:nvPr/>
        </p:nvGrpSpPr>
        <p:grpSpPr>
          <a:xfrm>
            <a:off x="5388120" y="3559320"/>
            <a:ext cx="513720" cy="459720"/>
            <a:chOff x="5388120" y="3559320"/>
            <a:chExt cx="513720" cy="459720"/>
          </a:xfrm>
        </p:grpSpPr>
        <p:sp>
          <p:nvSpPr>
            <p:cNvPr id="165" name=""/>
            <p:cNvSpPr/>
            <p:nvPr/>
          </p:nvSpPr>
          <p:spPr>
            <a:xfrm>
              <a:off x="5468760" y="3559320"/>
              <a:ext cx="43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388120" y="3740400"/>
              <a:ext cx="158400" cy="145440"/>
              <a:chOff x="5388120" y="3740400"/>
              <a:chExt cx="158400" cy="145440"/>
            </a:xfrm>
          </p:grpSpPr>
          <p:sp>
            <p:nvSpPr>
              <p:cNvPr id="167" name=""/>
              <p:cNvSpPr/>
              <p:nvPr/>
            </p:nvSpPr>
            <p:spPr>
              <a:xfrm>
                <a:off x="5388120" y="3740400"/>
                <a:ext cx="158400" cy="145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5388120" y="3740400"/>
                <a:ext cx="158400" cy="145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9" name=""/>
          <p:cNvSpPr/>
          <p:nvPr/>
        </p:nvSpPr>
        <p:spPr>
          <a:xfrm>
            <a:off x="7365960" y="3178080"/>
            <a:ext cx="6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16720" y="3679920"/>
            <a:ext cx="6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7529040" y="2786040"/>
            <a:ext cx="562320" cy="459720"/>
            <a:chOff x="7529040" y="2786040"/>
            <a:chExt cx="562320" cy="459720"/>
          </a:xfrm>
        </p:grpSpPr>
        <p:sp>
          <p:nvSpPr>
            <p:cNvPr id="172" name=""/>
            <p:cNvSpPr/>
            <p:nvPr/>
          </p:nvSpPr>
          <p:spPr>
            <a:xfrm>
              <a:off x="7646760" y="2786040"/>
              <a:ext cx="44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7529040" y="2976480"/>
              <a:ext cx="159120" cy="145800"/>
              <a:chOff x="7529040" y="2976480"/>
              <a:chExt cx="159120" cy="145800"/>
            </a:xfrm>
          </p:grpSpPr>
          <p:sp>
            <p:nvSpPr>
              <p:cNvPr id="174" name=""/>
              <p:cNvSpPr/>
              <p:nvPr/>
            </p:nvSpPr>
            <p:spPr>
              <a:xfrm>
                <a:off x="7529400" y="2976480"/>
                <a:ext cx="15876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7529040" y="2976480"/>
                <a:ext cx="15876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6" name=""/>
          <p:cNvGrpSpPr/>
          <p:nvPr/>
        </p:nvGrpSpPr>
        <p:grpSpPr>
          <a:xfrm>
            <a:off x="7577280" y="3589200"/>
            <a:ext cx="513720" cy="459720"/>
            <a:chOff x="7577280" y="3589200"/>
            <a:chExt cx="513720" cy="459720"/>
          </a:xfrm>
        </p:grpSpPr>
        <p:sp>
          <p:nvSpPr>
            <p:cNvPr id="177" name=""/>
            <p:cNvSpPr/>
            <p:nvPr/>
          </p:nvSpPr>
          <p:spPr>
            <a:xfrm>
              <a:off x="7657920" y="3589200"/>
              <a:ext cx="43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7577280" y="3770280"/>
              <a:ext cx="158400" cy="145800"/>
              <a:chOff x="7577280" y="3770280"/>
              <a:chExt cx="158400" cy="145800"/>
            </a:xfrm>
          </p:grpSpPr>
          <p:sp>
            <p:nvSpPr>
              <p:cNvPr id="179" name=""/>
              <p:cNvSpPr/>
              <p:nvPr/>
            </p:nvSpPr>
            <p:spPr>
              <a:xfrm>
                <a:off x="7577280" y="3770280"/>
                <a:ext cx="15840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7577280" y="3770280"/>
                <a:ext cx="15840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1" name=""/>
          <p:cNvSpPr/>
          <p:nvPr/>
        </p:nvSpPr>
        <p:spPr>
          <a:xfrm>
            <a:off x="263520" y="5084640"/>
            <a:ext cx="8650440" cy="1488240"/>
          </a:xfrm>
          <a:prstGeom prst="roundRect">
            <a:avLst>
              <a:gd name="adj" fmla="val 16667"/>
            </a:avLst>
          </a:prstGeom>
          <a:solidFill>
            <a:srgbClr val="fefece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мотрите внимательно на эти дроб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авните числители и знаменатели в каждой пар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вы заметил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5920" y="1889280"/>
            <a:ext cx="29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верьте себ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88800" y="965880"/>
            <a:ext cx="8439120" cy="495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cfcd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938160" y="2824200"/>
            <a:ext cx="3753000" cy="3016080"/>
            <a:chOff x="938160" y="2824200"/>
            <a:chExt cx="3753000" cy="3016080"/>
          </a:xfrm>
        </p:grpSpPr>
        <p:sp>
          <p:nvSpPr>
            <p:cNvPr id="185" name=""/>
            <p:cNvSpPr/>
            <p:nvPr/>
          </p:nvSpPr>
          <p:spPr>
            <a:xfrm>
              <a:off x="938160" y="2824200"/>
              <a:ext cx="3753000" cy="3016080"/>
            </a:xfrm>
            <a:prstGeom prst="irregularSeal1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fcfc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1892160" y="3732120"/>
                  <a:ext cx="1606680" cy="110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a</m:t>
                          </m:r>
                          <m:r>
                            <m:t xml:space="preserve"> </m:t>
                          </m:r>
                          <m:r>
                            <m:t xml:space="preserve">⋅</m:t>
                          </m:r>
                          <m:r>
                            <m:t xml:space="preserve"> </m:t>
                          </m:r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b</m:t>
                          </m:r>
                          <m:r>
                            <m:t xml:space="preserve"> </m:t>
                          </m:r>
                          <m:r>
                            <m:t xml:space="preserve">⋅</m:t>
                          </m:r>
                          <m:r>
                            <m:t xml:space="preserve"> </m:t>
                          </m:r>
                          <m:r>
                            <m:t xml:space="preserve">n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b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7" name=""/>
          <p:cNvGrpSpPr/>
          <p:nvPr/>
        </p:nvGrpSpPr>
        <p:grpSpPr>
          <a:xfrm>
            <a:off x="4765320" y="2824200"/>
            <a:ext cx="3753000" cy="3016080"/>
            <a:chOff x="4765320" y="2824200"/>
            <a:chExt cx="3753000" cy="3016080"/>
          </a:xfrm>
        </p:grpSpPr>
        <p:sp>
          <p:nvSpPr>
            <p:cNvPr id="188" name=""/>
            <p:cNvSpPr/>
            <p:nvPr/>
          </p:nvSpPr>
          <p:spPr>
            <a:xfrm flipH="1">
              <a:off x="4764960" y="2824200"/>
              <a:ext cx="3753000" cy="3016080"/>
            </a:xfrm>
            <a:prstGeom prst="irregularSeal1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fcfc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5691240" y="3732120"/>
                  <a:ext cx="1784160" cy="110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a</m:t>
                          </m:r>
                          <m:r>
                            <m:t xml:space="preserve"> </m:t>
                          </m:r>
                          <m:r>
                            <m:t xml:space="preserve">:</m:t>
                          </m:r>
                          <m:r>
                            <m:t xml:space="preserve"> </m:t>
                          </m:r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b</m:t>
                          </m:r>
                          <m:r>
                            <m:t xml:space="preserve"> </m:t>
                          </m:r>
                          <m:r>
                            <m:t xml:space="preserve">:</m:t>
                          </m:r>
                          <m:r>
                            <m:t xml:space="preserve"> </m:t>
                          </m:r>
                          <m:r>
                            <m:t xml:space="preserve">m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b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0" name=""/>
          <p:cNvSpPr/>
          <p:nvPr/>
        </p:nvSpPr>
        <p:spPr>
          <a:xfrm>
            <a:off x="482760" y="1135080"/>
            <a:ext cx="8294400" cy="1404360"/>
          </a:xfrm>
          <a:prstGeom prst="roundRect">
            <a:avLst>
              <a:gd name="adj" fmla="val 16667"/>
            </a:avLst>
          </a:prstGeom>
          <a:solidFill>
            <a:srgbClr val="c3f4ff"/>
          </a:solidFill>
          <a:ln w="9360">
            <a:solidFill>
              <a:srgbClr val="fcfcd0"/>
            </a:solidFill>
            <a:miter/>
          </a:ln>
          <a:effectLst>
            <a:outerShdw dist="117181" dir="2961631" blurRad="0" rotWithShape="0">
              <a:srgbClr val="fcfcd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 умножении или делении числителя и знаменателя дроби на одно и то же число (кроме нуля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 не  изменяетс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817640" y="243000"/>
            <a:ext cx="52005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99"/>
                </a:solidFill>
                <a:effectLst>
                  <a:outerShdw dist="17819" dir="2700000" blurRad="0" rotWithShape="0">
                    <a:srgbClr val="ffff99"/>
                  </a:outerShdw>
                </a:effectLst>
                <a:latin typeface="Impact"/>
              </a:rPr>
              <a:t>Основное свойство дроби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99"/>
              </a:solidFill>
              <a:effectLst>
                <a:outerShdw dist="17819" dir="2700000" blurRad="0" rotWithShape="0">
                  <a:srgbClr val="ffff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9T14:28:19Z</dcterms:created>
  <dc:creator>Зубарева И.И., Мильштейн М.С., Гамбарин В.Г.</dc:creator>
  <dc:description/>
  <dc:language>en-US</dc:language>
  <cp:lastModifiedBy>Irina</cp:lastModifiedBy>
  <dcterms:modified xsi:type="dcterms:W3CDTF">2007-05-30T12:17:09Z</dcterms:modified>
  <cp:revision>27</cp:revision>
  <dc:subject/>
  <dc:title>Презентация PowerPoint</dc:title>
</cp:coreProperties>
</file>